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3961031"/>
        <c:axId val="6906547"/>
      </c:barChart>
      <c:catAx>
        <c:axId val="4396103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06547"/>
        <c:crosses val="autoZero"/>
        <c:auto val="1"/>
        <c:lblAlgn val="ctr"/>
        <c:lblOffset val="100"/>
        <c:noMultiLvlLbl val="0"/>
      </c:catAx>
      <c:valAx>
        <c:axId val="690654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396103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73988-5E80-4627-9947-09B2249CF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E8806-9DBC-4638-8165-BE49C882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2BDCF-5069-436E-B635-D22379E48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1D9FD-C81D-4025-BACF-5D8C86CD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860CF-50E9-4F8C-8AEC-964B439A1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F810-47C0-4824-BFCF-309FFA408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D0982-5886-4681-81A9-0DD3AC414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B6141-3AFC-4872-B1FB-D6EEF6579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D2DB6-7025-46AE-A545-56356C3AF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954AA-0D70-47D7-8DB1-7A38E7DF6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1C44D-AB97-40EA-AE4F-5908BCB2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E364-D463-41AC-A5E2-0F43AE7E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473B8-854C-4E5A-9D09-5CDC85E9D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C63E-24C1-44AF-88D7-F8098E26A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FF099-76B6-411D-85CA-A1CBDA49D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BA21B-6A21-4080-AE97-7381A05F4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6F028-4CED-48FF-8371-106E4BD11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D8E6-84F0-413A-9F52-44A65C4B0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5B826-12FF-45CD-8195-E48B3EC5D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CDD01-8025-4D9B-A96D-A8A688E6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0251A-CC4F-4208-AAE5-765A3E77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8FA0-6027-4089-8DE4-AB117B6C2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9632-8E4E-416B-90D7-73098D70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B03E-75B1-4B7D-960B-820146589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4B0B1-E146-4F24-9634-5825950ABB6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C6AE9-4B70-4780-8B40-F5AF78AEF76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